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E2B5-FB26-4352-A197-ED1208D3CD9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03C2B-5EF6-4D16-BC4D-7E52A9503963}" type="slidenum">
              <a:rPr b="0" lang="en-CA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446-AF41-4B9F-90CA-1928746A8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FBAA-AAE1-4CDD-ACA0-4248AFA9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B6FA-5FE2-4A4E-A279-66865BDEF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4694-27FA-44D4-BE23-45FB52BB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494A-2C87-4DFC-A17D-FB6B5093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54877-A4EC-41FF-96DD-1A9DF4D3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77280-2D55-4166-B0B7-10D03D7C8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BCA9-3DCC-43DD-BACD-DC3F4E2A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A287-D34E-4B4A-96CC-89C56B59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620E-5211-4EC0-8048-5E66AADE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F425-EF52-4104-909A-B9D8A3B8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F35A-8107-45CE-93F3-BD1DD5B4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98F3-7345-4BB0-BC40-C998A456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8E38-C0FB-4C5B-AAFD-4C04E434C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22F5-6C53-4C4E-8F37-7C46B8B1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CC8A-34FA-4770-8CD5-D5CB35924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2736-64CF-4BFB-8460-D6E6564BD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9B0-02C3-4743-B4B7-03B5E0F4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526D-CC00-4304-9515-1008A523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8D4F-22A5-4ECA-8066-2B717FCD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EBBA-24D5-46C9-B720-4CE4D154D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A681-4AB3-49BF-BB5D-62DC5B50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7CC6-EB3E-4A2E-883F-6AA56993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EC7A-F0C1-49D9-9D50-8F008FB0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A542-9464-4D0F-86D0-F3193AF94F8D}" type="slidenum">
              <a:rPr b="0" lang="en-CA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719D-6FBF-4EBD-8E63-2A05CCD4D1AF}" type="slidenum">
              <a:rPr b="0" lang="en-CA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danscartoons.com/" TargetMode="External"/><Relationship Id="rId2" Type="http://schemas.openxmlformats.org/officeDocument/2006/relationships/hyperlink" Target="http://www.sasked.gov.sk.ca/branches/aar/prov_exams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601640"/>
            <a:ext cx="777240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Preparing for Departmental </a:t>
            </a:r>
            <a:br>
              <a:rPr sz="4400"/>
            </a:b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Exams    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980720" y="358092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CA" sz="3200" spc="-1" strike="noStrike">
                <a:solidFill>
                  <a:srgbClr val="ffffcc"/>
                </a:solidFill>
                <a:latin typeface="Arial"/>
              </a:rPr>
              <a:t>Don’t Panic, Be Prepared!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Bev Ptolem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Sun West School Division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view how to use your graphing calculato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ing calculator to mat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ing dictionary, text &amp;/or notebook to chemistry as its open book (exams/prototypes not allowe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for open book as you don’t have time to look up everything and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on’t finish!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lag important note/text sections, formulas, examples to refer to quickly on the open boo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th/science questions usually in order of units, number of questions correlates to time given in cour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Test-Taking Strategies 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CA" sz="3200" spc="-1" strike="noStrike">
                <a:solidFill>
                  <a:srgbClr val="ffffcc"/>
                </a:solidFill>
                <a:latin typeface="Arial"/>
              </a:rPr>
              <a:t>General Tips for Test Taking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Take 2:  take 2 min to unload memory bank of nb stuff onto back of paper (names, dates, formulas, memory tricks etc.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Read directions (circle key direction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Skim entire test before starting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Answer question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Star the ones you don’t know, and continue on, coming back later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Double check answer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If you aren’t certain of an answer,  go with your “first instinct”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cc"/>
                </a:solidFill>
                <a:latin typeface="Arial"/>
              </a:rPr>
              <a:t>Budget time wisely, do ones you know &amp; worth a lot first (ex. essays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ultiple Choice Strategies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1920" y="2057400"/>
            <a:ext cx="8209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ad the whole ques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ry to answer the question before looking at the answer choices, compare yours to the one that is simila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the process of elimination; look for distractors, eliminate the choices that are wro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k backwards from each answer choice to see if it is possibl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liminate choices that seem to general, or too vagu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C 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liminate choices that don’t fit grammatically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there are two opposite answers, one of them is often the right answ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orrect choices are sometimes long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Use information in the other questions as clues to help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n’t just guess, do the questions on paper to find answ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uble check answers to math questions by substituting in answer into the equa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ssay question strategies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now the key word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velop a quick outline first (planning box on ELA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r short answers, start by rephrasing the question as answ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ick to formal styl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alyze and give examples, don’t just retell plot or comment on them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Follow structure for paragraphs &amp; essays being sure to have thesis/topic statements that you prove with eviden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read, revise and edit to be sure your answer is clea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1835280" y="51768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1835280" y="517680"/>
            <a:ext cx="5475240" cy="5822640"/>
            <a:chOff x="1835280" y="517680"/>
            <a:chExt cx="5475240" cy="5822640"/>
          </a:xfrm>
        </p:grpSpPr>
        <p:grpSp>
          <p:nvGrpSpPr>
            <p:cNvPr id="134" name="Group 8"/>
            <p:cNvGrpSpPr/>
            <p:nvPr/>
          </p:nvGrpSpPr>
          <p:grpSpPr>
            <a:xfrm>
              <a:off x="1835280" y="517680"/>
              <a:ext cx="5475240" cy="5822640"/>
              <a:chOff x="1835280" y="517680"/>
              <a:chExt cx="5475240" cy="5822640"/>
            </a:xfrm>
          </p:grpSpPr>
          <p:sp>
            <p:nvSpPr>
              <p:cNvPr id="135" name="Rectangle 5"/>
              <p:cNvSpPr/>
              <p:nvPr/>
            </p:nvSpPr>
            <p:spPr>
              <a:xfrm>
                <a:off x="1835280" y="517680"/>
                <a:ext cx="54752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36" name="Rectangle 6"/>
              <p:cNvSpPr/>
              <p:nvPr/>
            </p:nvSpPr>
            <p:spPr>
              <a:xfrm>
                <a:off x="1835280" y="517680"/>
                <a:ext cx="5475240" cy="582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800" spc="-1" strike="noStrike" u="sng">
                    <a:solidFill>
                      <a:srgbClr val="cc6600"/>
                    </a:solidFill>
                    <a:uFillTx/>
                    <a:latin typeface="Verdana"/>
                    <a:hlinkClick r:id="rId1"/>
                  </a:rPr>
                  <a:t>  </a:t>
                </a:r>
                <a:r>
                  <a:rPr b="0" lang="en-CA" sz="360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CA" sz="8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37" name="Rectangle 9"/>
            <p:cNvSpPr/>
            <p:nvPr/>
          </p:nvSpPr>
          <p:spPr>
            <a:xfrm>
              <a:off x="1835280" y="517680"/>
              <a:ext cx="5475240" cy="5822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38" name="Picture 7" descr="finalansw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79640" y="563400"/>
            <a:ext cx="4892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1219320" y="3733920"/>
            <a:ext cx="6172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Have a great exam week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835280" y="64764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8" name="Group 8"/>
          <p:cNvGrpSpPr/>
          <p:nvPr/>
        </p:nvGrpSpPr>
        <p:grpSpPr>
          <a:xfrm>
            <a:off x="1835280" y="647640"/>
            <a:ext cx="5475240" cy="5564160"/>
            <a:chOff x="1835280" y="647640"/>
            <a:chExt cx="5475240" cy="5564160"/>
          </a:xfrm>
        </p:grpSpPr>
        <p:grpSp>
          <p:nvGrpSpPr>
            <p:cNvPr id="99" name="Group 6"/>
            <p:cNvGrpSpPr/>
            <p:nvPr/>
          </p:nvGrpSpPr>
          <p:grpSpPr>
            <a:xfrm>
              <a:off x="1835280" y="647640"/>
              <a:ext cx="5475240" cy="5564160"/>
              <a:chOff x="1835280" y="647640"/>
              <a:chExt cx="5475240" cy="556416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1835280" y="647640"/>
                <a:ext cx="547524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1" name="Rectangle 4"/>
              <p:cNvSpPr/>
              <p:nvPr/>
            </p:nvSpPr>
            <p:spPr>
              <a:xfrm>
                <a:off x="1835280" y="647640"/>
                <a:ext cx="5475240" cy="556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CA" sz="8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0" lang="en-CA" sz="34300" spc="-1" strike="noStrike">
                    <a:solidFill>
                      <a:srgbClr val="000000"/>
                    </a:solidFill>
                    <a:latin typeface="Verdana"/>
                  </a:rPr>
                  <a:t> </a:t>
                </a:r>
                <a:r>
                  <a:rPr b="0" lang="en-CA" sz="800" spc="-1" strike="noStrike">
                    <a:solidFill>
                      <a:srgbClr val="00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02" name="Rectangle 7"/>
            <p:cNvSpPr/>
            <p:nvPr/>
          </p:nvSpPr>
          <p:spPr>
            <a:xfrm>
              <a:off x="1835280" y="647640"/>
              <a:ext cx="5475240" cy="556416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pic>
        <p:nvPicPr>
          <p:cNvPr id="103" name="Picture 5" descr="Cartoon_149wtmk"/>
          <p:cNvPicPr/>
          <p:nvPr/>
        </p:nvPicPr>
        <p:blipFill>
          <a:blip r:embed="rId1"/>
          <a:stretch/>
        </p:blipFill>
        <p:spPr>
          <a:xfrm>
            <a:off x="1981080" y="693720"/>
            <a:ext cx="4525920" cy="54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720080" y="304920"/>
            <a:ext cx="513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What Would You Do If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This Happens To You?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2514600" y="3581280"/>
            <a:ext cx="621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lip over the exam or on blank paper,  list information /topics you rememb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aking in  the class.  Soon your brain will function again and most of it will come back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2535120" y="2057400"/>
            <a:ext cx="6267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prepare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 this  freeze up doesn’t happ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o you,  but, if it does . . 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Format of Final Exams 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 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Math  and Sciences: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* 50  multiple choic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hemistry is “open book”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-  </a:t>
            </a:r>
            <a:r>
              <a:rPr b="0" lang="en-US" sz="3600" spc="-1" strike="noStrike">
                <a:solidFill>
                  <a:srgbClr val="ffffcc"/>
                </a:solidFill>
                <a:latin typeface="Arial"/>
                <a:ea typeface="Times New Roman"/>
              </a:rPr>
              <a:t>ELA:   Combination of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* 25 Multiple choice for essay structure/ sentence errors/ literary  terms</a:t>
            </a:r>
            <a:r>
              <a:rPr b="0" lang="en-CA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/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ading comprehensio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* Short answ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* Personal respon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623880" indent="-2397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* Literary essay writing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30  has one less essay  than B 30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neral Study Tip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isten to your mother’s advic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you need to study ahead so that you’ve done the bulk of it and have only to review the night before, in case a crisis occurs!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Get lots of rest, get fresh air &amp; exercise just before exam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Eat a nutritious breakfast &amp; lunch to kick start the bra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f you have a  stress headache, drink a Coke or coffee a half hour prior to the exam, opens the blood vessels to brai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eneral Tips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ctive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tudy not passive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n’t  j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read,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every operation your brain does stores the information 2 X longer than just reading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e  your own study notes, don’t just use someone’s. Make them concise. Then, compare yours to theirs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reate acronyms or other memory tricks, use diagram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escribe or explain to yourself alou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o in class reviews, ask question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urn questions into not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Redo questions and then compare your answer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Make up practice quizzes and do them at a later tim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tudy with a friend but not until you’ve done the individual work.  Try to explain/demo/ teach each other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Visualize what you want to rememb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ork at i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; if you’ve forgotten how to do it, look back at text, notes, examples, find out what stumps you and ask for help from there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;don’t give up!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ELA Study Tips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Make study notes /webs. Practise fixing grammar/spelling etc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Create acronym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Frame answers to essay question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Identify selections and genres that could be used for each theme essay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Do a prototype exam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Review answers to prototype/review rubric to see “the bar”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Choose pieces enjoyed and understood to use on exam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Avoid plot summary or theme discussion only, there must be analysis in relation to them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7160" y="37800"/>
            <a:ext cx="8637480" cy="144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Study Tips for Math/Science</a:t>
            </a:r>
            <a:br>
              <a:rPr sz="4400"/>
            </a:br>
            <a:r>
              <a:rPr b="0" lang="en-CA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CA" sz="2400" spc="-1" strike="noStrike">
                <a:solidFill>
                  <a:srgbClr val="ffcc00"/>
                </a:solidFill>
                <a:latin typeface="Arial"/>
              </a:rPr>
              <a:t>(Yes you can and should study for math!!”)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Make study notes/webs of terms, formulas, examples of questions &amp; solution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cc"/>
                </a:solidFill>
                <a:latin typeface="Arial"/>
              </a:rPr>
              <a:t>Redo  unit tests/reviews, actually doing the calculations to remember procedure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Then do the related questions on the prototype and check the answer key. Do more than one so you can see different ways questions may be asked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Study using the formula sheet from prototype, id the ones which were from optional units to prevent freaking out over  unfamiliar formula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35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500"/>
                            </p:stCondLst>
                            <p:childTnLst>
                              <p:par>
                                <p:cTn id="8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de.ballek</cp:lastModifiedBy>
  <dcterms:modified xsi:type="dcterms:W3CDTF">2011-04-05T17:42:30Z</dcterms:modified>
  <cp:revision>25</cp:revision>
  <dc:subject/>
  <dc:title>Departmental Exams      </dc:title>
</cp:coreProperties>
</file>